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785-14D2-49E2-81AE-3D5AF7D2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69D-D28A-4880-9129-E3FF3ABB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8B0-9847-44EB-8433-5DEA4D5F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54F-11DB-4860-9611-660BA97A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A0D-0B9C-4512-ABE9-3CE0B94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F08-DDFA-4914-AF33-759E2695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31F-95C8-48F8-B9AE-27B54A2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929-B27D-45E7-9858-A30C76E8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AF3-2319-4022-A97F-4D73EB2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891-1610-40E4-9AFE-97957A9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169-F526-4628-9D17-CD31053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69F-EA41-4A93-B2EC-72543F0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550D-385F-462F-B687-C0305A961CA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1600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48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apter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6094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808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80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80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76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60948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094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1600200"/>
            <a:ext cx="838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438280"/>
            <a:ext cx="95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M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80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  </a:t>
            </a: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57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  </a:t>
            </a: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743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905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BTN#_KB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0666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19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990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990720"/>
            <a:ext cx="99036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144"/>
                </a:moveTo>
                <a:lnTo>
                  <a:pt x="336" y="144"/>
                </a:lnTo>
                <a:lnTo>
                  <a:pt x="336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838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5PWR_EN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76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6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17524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P_S5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05740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P_S3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765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1337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6094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762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66880"/>
            <a:ext cx="6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76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3049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304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382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MRST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0666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0666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_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9144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PS5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8672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838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1447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0010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2952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76520"/>
            <a:ext cx="6094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371600"/>
            <a:ext cx="83808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PS5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91720" y="609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91440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523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0100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19051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447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160020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219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838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917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514600"/>
            <a:ext cx="88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2V_S0_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14479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2V__HT0A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1600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3828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7339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ORE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505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L65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33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RM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505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7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3124080"/>
            <a:ext cx="8384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48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_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8195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9718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9718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905120"/>
            <a:ext cx="95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BTN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143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1430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981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343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_CORE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4956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495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600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3962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9718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800600"/>
            <a:ext cx="838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876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DT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410080"/>
            <a:ext cx="838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943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TDRV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943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8672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7150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DT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943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324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6477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5943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6324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6324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PC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1814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647712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680076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238880" y="5105160"/>
            <a:ext cx="0" cy="16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7242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9528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43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44197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YS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410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6386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60958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6095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105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47242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724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43434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24680" y="4952880"/>
            <a:ext cx="8384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F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5562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388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54864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5486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1981080"/>
            <a:ext cx="838080" cy="38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SL6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762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858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21337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001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9116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6668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209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1905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8V_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05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5V__S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9917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91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5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1905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8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182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91120" y="1676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676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32004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UNOWR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34290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3526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7339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2971800"/>
            <a:ext cx="99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V_S0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RE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3505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2004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0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666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666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1752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396252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ON/RESET Sequence(Adapter 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57400" y="2362320"/>
            <a:ext cx="1314360" cy="14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2743200"/>
            <a:ext cx="610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743200"/>
            <a:ext cx="133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29718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34290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7432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04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12408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MAX19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3200400"/>
            <a:ext cx="93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4382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1911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7000" y="1314360"/>
            <a:ext cx="1008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559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2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131436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20720" y="89388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ORE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05000" y="1552680"/>
            <a:ext cx="986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029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657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00480" y="131436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_CORE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41972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6019920"/>
            <a:ext cx="8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LAN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4267080"/>
            <a:ext cx="12189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71600" y="441972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41911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4876920"/>
            <a:ext cx="8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1D2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4480" y="487692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2666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27672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9568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19720" y="3504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5146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266688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289548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419720" y="2742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518148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3124080"/>
            <a:ext cx="7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2D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200400"/>
            <a:ext cx="7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3581280"/>
            <a:ext cx="8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518148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5638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419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380988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L53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0384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819520" y="3809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3886200"/>
            <a:ext cx="11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6360" y="110808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1108080"/>
            <a:ext cx="9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4480" y="449568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52578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72428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7000" y="1752480"/>
            <a:ext cx="1322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LP2951AC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188748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22520" y="1673280"/>
            <a:ext cx="73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720" y="426708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 TPS5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4480" y="5257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46483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50292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5334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360" y="4495680"/>
            <a:ext cx="76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2280" y="4800600"/>
            <a:ext cx="77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V_S0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360" y="510552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5PWR_EN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715000"/>
            <a:ext cx="647640" cy="2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43828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809880" y="1904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18288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G913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72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2880" y="1752480"/>
            <a:ext cx="86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733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19720" y="40384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1523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4197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6172200"/>
            <a:ext cx="647640" cy="2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LM11A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54864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59436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419720" y="5943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4197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419720" y="6400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64008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6553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560" y="0"/>
            <a:ext cx="36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Block Diagra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Audio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63760" y="174456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KR_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01920" y="2852640"/>
            <a:ext cx="2184480" cy="252108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TEK ALC6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0720" y="1628640"/>
            <a:ext cx="1013040" cy="64476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CH6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0720" y="582480"/>
            <a:ext cx="1013040" cy="90180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74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d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d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24360" y="2205000"/>
            <a:ext cx="660240" cy="3808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3684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4800600"/>
            <a:ext cx="1073160" cy="91440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14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45120" y="3068640"/>
            <a:ext cx="990720" cy="50472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762120"/>
            <a:ext cx="11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OP_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6400800"/>
            <a:ext cx="170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5867280"/>
            <a:ext cx="1028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86400" y="3446640"/>
            <a:ext cx="54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05160" y="4581360"/>
            <a:ext cx="67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-G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9920" y="50292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47680" y="28526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_B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317664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_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_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80760" y="515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36360" y="311148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’97 Link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352680" y="533376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5560" y="98100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_SPK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560" y="5497560"/>
            <a:ext cx="1170000" cy="38088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DC 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120" y="3276720"/>
            <a:ext cx="395280" cy="16714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50532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3581280"/>
            <a:ext cx="824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70760" y="4521240"/>
            <a:ext cx="117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.P.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620120" y="4952520"/>
            <a:ext cx="742320" cy="609840"/>
            <a:chOff x="7620120" y="4952520"/>
            <a:chExt cx="742320" cy="609840"/>
          </a:xfrm>
        </p:grpSpPr>
        <p:sp>
          <p:nvSpPr>
            <p:cNvPr id="389" name=""/>
            <p:cNvSpPr/>
            <p:nvPr/>
          </p:nvSpPr>
          <p:spPr>
            <a:xfrm>
              <a:off x="7620120" y="5181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0120" y="53337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20120" y="518148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867440" y="4952520"/>
              <a:ext cx="2473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7440" y="5333760"/>
              <a:ext cx="2473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15120" y="49528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7560" y="52578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8197560" y="502884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97560" y="5410080"/>
              <a:ext cx="164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620120" y="5562720"/>
            <a:ext cx="742320" cy="609480"/>
            <a:chOff x="7620120" y="5562720"/>
            <a:chExt cx="742320" cy="609480"/>
          </a:xfrm>
        </p:grpSpPr>
        <p:sp>
          <p:nvSpPr>
            <p:cNvPr id="399" name=""/>
            <p:cNvSpPr/>
            <p:nvPr/>
          </p:nvSpPr>
          <p:spPr>
            <a:xfrm>
              <a:off x="7620120" y="57909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0120" y="594360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0120" y="57909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867440" y="556272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67440" y="594360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15120" y="55627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97560" y="58672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8197560" y="563832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97560" y="601956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095880" y="5257800"/>
            <a:ext cx="1486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18520" y="53863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8520" y="59961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4724280"/>
            <a:ext cx="930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1893960"/>
            <a:ext cx="1238400" cy="7617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wer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2133720"/>
            <a:ext cx="660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1905120"/>
            <a:ext cx="6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213372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10666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33640" y="4633920"/>
            <a:ext cx="858600" cy="471600"/>
          </a:xfrm>
          <a:prstGeom prst="rect">
            <a:avLst/>
          </a:prstGeom>
          <a:noFill/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01920" y="335772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2436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01920" y="37162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79680" y="34290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92240" y="474516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12193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1295280"/>
            <a:ext cx="936720" cy="43200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94160" y="1511280"/>
            <a:ext cx="100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94160" y="1511280"/>
            <a:ext cx="0" cy="69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07200" y="127944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BC_B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1440" y="26384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SYS_B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586400" y="3301920"/>
            <a:ext cx="54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162560" y="365760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157880" y="3284640"/>
            <a:ext cx="5040" cy="37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144840" y="3284640"/>
            <a:ext cx="101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144840" y="3500280"/>
            <a:ext cx="101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22960" y="307008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LINR_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22600" y="32860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LINL_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28800" y="5715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743200" y="5334120"/>
            <a:ext cx="0" cy="43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8040" y="440856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86400" y="426420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MIC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566960" y="4506840"/>
            <a:ext cx="260676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81280"/>
            <a:ext cx="0" cy="209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34920" y="22971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19810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35812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403848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4114800"/>
            <a:ext cx="824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5105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10280" y="5029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560" y="426708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57880" y="4292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92240" y="488808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92240" y="503244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96080" y="457200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4648320"/>
            <a:ext cx="8244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16760" y="217980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A_AUD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1219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81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762120"/>
            <a:ext cx="6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72200" y="1066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962760" y="963720"/>
            <a:ext cx="514440" cy="123840"/>
            <a:chOff x="6962760" y="963720"/>
            <a:chExt cx="514440" cy="123840"/>
          </a:xfrm>
        </p:grpSpPr>
        <p:sp>
          <p:nvSpPr>
            <p:cNvPr id="462" name=""/>
            <p:cNvSpPr/>
            <p:nvPr/>
          </p:nvSpPr>
          <p:spPr>
            <a:xfrm flipH="1">
              <a:off x="6981480" y="1059120"/>
              <a:ext cx="954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62760" y="96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61280" y="1059120"/>
              <a:ext cx="9504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27880" y="96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77240" y="1030320"/>
              <a:ext cx="28440" cy="28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05680" y="103032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62920" y="1030320"/>
              <a:ext cx="5688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9800" y="1030320"/>
              <a:ext cx="5580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75600" y="103032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32840" y="1030320"/>
              <a:ext cx="28440" cy="28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595920" y="4767120"/>
            <a:ext cx="209520" cy="3812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6902280" y="4767120"/>
            <a:ext cx="209880" cy="3812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flipV="1">
            <a:off x="6705720" y="4724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10280" y="4724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620120" y="6248520"/>
            <a:ext cx="742320" cy="609480"/>
            <a:chOff x="7620120" y="6248520"/>
            <a:chExt cx="742320" cy="609480"/>
          </a:xfrm>
        </p:grpSpPr>
        <p:sp>
          <p:nvSpPr>
            <p:cNvPr id="479" name=""/>
            <p:cNvSpPr/>
            <p:nvPr/>
          </p:nvSpPr>
          <p:spPr>
            <a:xfrm>
              <a:off x="7620120" y="64767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662940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0120" y="64767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867440" y="624852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7440" y="662940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15120" y="62485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97560" y="65530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8197560" y="632412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97560" y="670536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5880" y="5486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5486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6095880"/>
            <a:ext cx="1073160" cy="60984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M4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5880" y="655308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8520" y="6583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800" y="51055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o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17000" y="22860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v. SA  12 /04/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SMB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31840" y="4192560"/>
            <a:ext cx="990720" cy="18511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7080" y="464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K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4280" y="5106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KBC3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01720" y="419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1720" y="442116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3962520"/>
            <a:ext cx="94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A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33640" y="43448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50840" y="1393920"/>
            <a:ext cx="101448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B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8680" y="1447920"/>
            <a:ext cx="12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MBC_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54520" y="1712880"/>
            <a:ext cx="12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MBD_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34280" y="2433600"/>
            <a:ext cx="92700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CLK 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TCV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D2/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99200" y="1596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057040" y="1676520"/>
            <a:ext cx="48769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057400" y="1981080"/>
            <a:ext cx="51055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6520" y="2433600"/>
            <a:ext cx="879480" cy="62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IMM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A2/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94280" y="2433600"/>
            <a:ext cx="858600" cy="62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IMM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A0/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575320" y="1676160"/>
            <a:ext cx="1440" cy="75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811840" y="1980720"/>
            <a:ext cx="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441520" y="1390320"/>
            <a:ext cx="180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606760" y="14666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359080" y="1009440"/>
            <a:ext cx="164520" cy="457200"/>
            <a:chOff x="2359080" y="1009440"/>
            <a:chExt cx="164520" cy="457200"/>
          </a:xfrm>
        </p:grpSpPr>
        <p:sp>
          <p:nvSpPr>
            <p:cNvPr id="517" name=""/>
            <p:cNvSpPr/>
            <p:nvPr/>
          </p:nvSpPr>
          <p:spPr>
            <a:xfrm flipV="1">
              <a:off x="2441520" y="1009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2359080" y="1123920"/>
              <a:ext cx="1645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2523960" y="1009440"/>
            <a:ext cx="164880" cy="457200"/>
            <a:chOff x="2523960" y="1009440"/>
            <a:chExt cx="164880" cy="457200"/>
          </a:xfrm>
        </p:grpSpPr>
        <p:sp>
          <p:nvSpPr>
            <p:cNvPr id="520" name=""/>
            <p:cNvSpPr/>
            <p:nvPr/>
          </p:nvSpPr>
          <p:spPr>
            <a:xfrm flipV="1">
              <a:off x="2606760" y="1009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2523960" y="1123920"/>
              <a:ext cx="1648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 flipV="1">
            <a:off x="4406760" y="1639440"/>
            <a:ext cx="180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641840" y="20001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904080" y="1676520"/>
            <a:ext cx="1440" cy="75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139160" y="20019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00160" y="11365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5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40600" y="207324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</a:t>
            </a: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69000" y="2289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133720" y="480060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133720" y="5029200"/>
            <a:ext cx="1295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4572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BC_K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BD_K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417760" y="454932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47440" y="43210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71840" y="4626000"/>
            <a:ext cx="1440" cy="422280"/>
          </a:xfrm>
          <a:custGeom>
            <a:avLst/>
            <a:gdLst/>
            <a:ahLst/>
            <a:rect l="l" t="t" r="r" b="b"/>
            <a:pathLst>
              <a:path w="1" h="266">
                <a:moveTo>
                  <a:pt x="0" y="26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362320" y="4190760"/>
            <a:ext cx="152280" cy="457200"/>
            <a:chOff x="2362320" y="4190760"/>
            <a:chExt cx="152280" cy="457200"/>
          </a:xfrm>
        </p:grpSpPr>
        <p:sp>
          <p:nvSpPr>
            <p:cNvPr id="537" name=""/>
            <p:cNvSpPr/>
            <p:nvPr/>
          </p:nvSpPr>
          <p:spPr>
            <a:xfrm flipV="1">
              <a:off x="243864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236232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/>
          <p:nvPr/>
        </p:nvSpPr>
        <p:spPr>
          <a:xfrm>
            <a:off x="2133720" y="5334120"/>
            <a:ext cx="54100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638680"/>
            <a:ext cx="54100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388620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5257800"/>
            <a:ext cx="76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=1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494080" y="4168440"/>
            <a:ext cx="152280" cy="457200"/>
            <a:chOff x="2494080" y="4168440"/>
            <a:chExt cx="152280" cy="457200"/>
          </a:xfrm>
        </p:grpSpPr>
        <p:sp>
          <p:nvSpPr>
            <p:cNvPr id="545" name=""/>
            <p:cNvSpPr/>
            <p:nvPr/>
          </p:nvSpPr>
          <p:spPr>
            <a:xfrm flipV="1">
              <a:off x="2570400" y="4168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2494080" y="428292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5105520" y="4191120"/>
            <a:ext cx="761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05520" y="4267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4495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7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81480" y="4800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=7A/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248520" y="4038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4267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11360" y="47242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705720" y="50288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858000" y="50288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629400" y="4571640"/>
            <a:ext cx="304920" cy="457200"/>
            <a:chOff x="6629400" y="4571640"/>
            <a:chExt cx="304920" cy="457200"/>
          </a:xfrm>
        </p:grpSpPr>
        <p:grpSp>
          <p:nvGrpSpPr>
            <p:cNvPr id="557" name=""/>
            <p:cNvGrpSpPr/>
            <p:nvPr/>
          </p:nvGrpSpPr>
          <p:grpSpPr>
            <a:xfrm>
              <a:off x="6629400" y="4571640"/>
              <a:ext cx="152280" cy="457200"/>
              <a:chOff x="6629400" y="4571640"/>
              <a:chExt cx="152280" cy="45720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6705720" y="4571640"/>
                <a:ext cx="1440" cy="114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9400" y="4686120"/>
                <a:ext cx="15228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"/>
            <p:cNvGrpSpPr/>
            <p:nvPr/>
          </p:nvGrpSpPr>
          <p:grpSpPr>
            <a:xfrm>
              <a:off x="6782040" y="4571640"/>
              <a:ext cx="152280" cy="457200"/>
              <a:chOff x="6782040" y="4571640"/>
              <a:chExt cx="152280" cy="45720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6858360" y="4571640"/>
                <a:ext cx="1440" cy="114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82040" y="4686120"/>
                <a:ext cx="15228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3" name=""/>
          <p:cNvSpPr/>
          <p:nvPr/>
        </p:nvSpPr>
        <p:spPr>
          <a:xfrm>
            <a:off x="3962520" y="51055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A_S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410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A_S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8120" y="4500360"/>
            <a:ext cx="419040" cy="321480"/>
            <a:chOff x="3048120" y="4500360"/>
            <a:chExt cx="419040" cy="321480"/>
          </a:xfrm>
        </p:grpSpPr>
        <p:sp>
          <p:nvSpPr>
            <p:cNvPr id="566" name=""/>
            <p:cNvSpPr/>
            <p:nvPr/>
          </p:nvSpPr>
          <p:spPr>
            <a:xfrm flipV="1">
              <a:off x="3257640" y="4524480"/>
              <a:ext cx="144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3187800" y="4471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1240" y="48099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7840" y="471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067200" y="4809960"/>
              <a:ext cx="950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8120" y="471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62240" y="4705200"/>
              <a:ext cx="18900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2240" y="4809960"/>
              <a:ext cx="190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4714920"/>
              <a:ext cx="1440" cy="950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7640" y="4772160"/>
              <a:ext cx="1440" cy="3780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57640" y="48099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32160" y="4714920"/>
              <a:ext cx="1440" cy="856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62240" y="4809960"/>
              <a:ext cx="190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1320" y="4705200"/>
              <a:ext cx="144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62240" y="4705200"/>
              <a:ext cx="18900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32160" y="4705200"/>
              <a:ext cx="144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09760" y="4705200"/>
              <a:ext cx="478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09760" y="4753080"/>
              <a:ext cx="9396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57640" y="4705200"/>
              <a:ext cx="460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57640" y="4753080"/>
              <a:ext cx="1440" cy="568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57640" y="48099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62240" y="4667400"/>
              <a:ext cx="18900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57640" y="4619520"/>
              <a:ext cx="1440" cy="478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3317040" y="45262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rot="16200000">
            <a:off x="3384000" y="48978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Courier New"/>
                <a:ea typeface="新細明體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3099600" y="48978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Courier New"/>
                <a:ea typeface="新細明體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4572000"/>
            <a:ext cx="34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80"/>
                </a:solidFill>
                <a:latin typeface="Arial"/>
                <a:ea typeface="新細明體"/>
              </a:rPr>
              <a:t>2</a:t>
            </a:r>
            <a:r>
              <a:rPr b="0" lang="en-US" sz="700" spc="-1" strike="noStrike">
                <a:solidFill>
                  <a:srgbClr val="000080"/>
                </a:solidFill>
                <a:latin typeface="Arial"/>
                <a:ea typeface="新細明體"/>
              </a:rPr>
              <a:t>N7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429000" y="4728960"/>
            <a:ext cx="419040" cy="478080"/>
            <a:chOff x="3429000" y="4728960"/>
            <a:chExt cx="419040" cy="478080"/>
          </a:xfrm>
        </p:grpSpPr>
        <p:sp>
          <p:nvSpPr>
            <p:cNvPr id="594" name=""/>
            <p:cNvSpPr/>
            <p:nvPr/>
          </p:nvSpPr>
          <p:spPr>
            <a:xfrm flipV="1">
              <a:off x="3638520" y="4753080"/>
              <a:ext cx="144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3569040" y="4700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32120" y="50385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98720" y="49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447720" y="50385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49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43480" y="4933800"/>
              <a:ext cx="1886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3480" y="5038560"/>
              <a:ext cx="187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62200" y="4943520"/>
              <a:ext cx="1800" cy="950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38520" y="5000760"/>
              <a:ext cx="1440" cy="3780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38520" y="50385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13040" y="4943520"/>
              <a:ext cx="1800" cy="856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43480" y="5038560"/>
              <a:ext cx="187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62200" y="4933800"/>
              <a:ext cx="180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43480" y="4933800"/>
              <a:ext cx="1886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13040" y="4933800"/>
              <a:ext cx="180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91000" y="4933800"/>
              <a:ext cx="4752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91000" y="4981680"/>
              <a:ext cx="9360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38520" y="4933800"/>
              <a:ext cx="460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38520" y="4981680"/>
              <a:ext cx="1440" cy="568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38520" y="50385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43480" y="4896000"/>
              <a:ext cx="18864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38520" y="4848120"/>
              <a:ext cx="1440" cy="478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3698280" y="47548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3764880" y="5126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3480840" y="5126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809880" y="5029200"/>
            <a:ext cx="129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4876920"/>
            <a:ext cx="34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80"/>
                </a:solidFill>
                <a:latin typeface="Arial"/>
                <a:ea typeface="新細明體"/>
              </a:rPr>
              <a:t>2</a:t>
            </a:r>
            <a:r>
              <a:rPr b="0" lang="en-US" sz="700" spc="-1" strike="noStrike">
                <a:solidFill>
                  <a:srgbClr val="000080"/>
                </a:solidFill>
                <a:latin typeface="Arial"/>
                <a:ea typeface="新細明體"/>
              </a:rPr>
              <a:t>N7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114800" y="457164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267080" y="45720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191120" y="4190760"/>
            <a:ext cx="152280" cy="457200"/>
            <a:chOff x="4191120" y="4190760"/>
            <a:chExt cx="152280" cy="457200"/>
          </a:xfrm>
        </p:grpSpPr>
        <p:sp>
          <p:nvSpPr>
            <p:cNvPr id="626" name=""/>
            <p:cNvSpPr/>
            <p:nvPr/>
          </p:nvSpPr>
          <p:spPr>
            <a:xfrm flipV="1">
              <a:off x="426744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7"/>
            <a:stretch/>
          </p:blipFill>
          <p:spPr>
            <a:xfrm>
              <a:off x="419112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4038480" y="4190760"/>
            <a:ext cx="152280" cy="457200"/>
            <a:chOff x="4038480" y="4190760"/>
            <a:chExt cx="152280" cy="457200"/>
          </a:xfrm>
        </p:grpSpPr>
        <p:sp>
          <p:nvSpPr>
            <p:cNvPr id="629" name=""/>
            <p:cNvSpPr/>
            <p:nvPr/>
          </p:nvSpPr>
          <p:spPr>
            <a:xfrm flipV="1">
              <a:off x="411480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8"/>
            <a:stretch/>
          </p:blipFill>
          <p:spPr>
            <a:xfrm>
              <a:off x="403848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/>
          <p:cNvSpPr/>
          <p:nvPr/>
        </p:nvSpPr>
        <p:spPr>
          <a:xfrm>
            <a:off x="2057400" y="3886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S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28760" y="76212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</a:t>
            </a: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7000" y="22860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v. SA  12 /04/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43434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S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380988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276720" y="4266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65760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96252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0:21:31Z</dcterms:created>
  <dc:creator>Shian Huang</dc:creator>
  <dc:description/>
  <dc:language>en-US</dc:language>
  <cp:lastModifiedBy>k0509256</cp:lastModifiedBy>
  <dcterms:modified xsi:type="dcterms:W3CDTF">2005-11-24T16:51:21Z</dcterms:modified>
  <cp:revision>13</cp:revision>
  <dc:subject/>
  <dc:title>Clock Block Diagram   Rev. SA  12 /04/ 2004</dc:title>
</cp:coreProperties>
</file>