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0A9-5389-434D-BD32-FE83F5ED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0FC-9B01-457B-B54E-8CD8CE20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31B-3EE9-44AC-92A4-E2DA06EE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D8F-743B-419B-BFE0-C9FC10AD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2B6-0158-471B-8D23-CF92C7C4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70B-5D5B-448F-9A4E-D7C27436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588-46B5-48AC-9129-90591DA6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9FF-1CCE-4ACE-AE59-5E25F1AE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28E-EC71-4D64-8FB9-6A11A368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3E0-B012-43CD-A3B1-614FD259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D58-C203-482F-9D53-F195A293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F54-ADB4-4197-8472-6A39AFF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3DD1-8C69-41B9-8014-8D113DBC7F2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200" y="16002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48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apter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685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6094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3808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80880"/>
            <a:ext cx="3045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80880"/>
            <a:ext cx="3045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808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80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808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762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60948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CBAT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609480"/>
            <a:ext cx="6098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_AUX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AUX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762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1600200"/>
            <a:ext cx="838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B 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438280"/>
            <a:ext cx="95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SM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80880"/>
            <a:ext cx="3045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80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  </a:t>
            </a: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4572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  </a:t>
            </a: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7432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90512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WRBTN#_KB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762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06668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19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121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990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990720"/>
            <a:ext cx="990360" cy="228600"/>
          </a:xfrm>
          <a:custGeom>
            <a:avLst/>
            <a:gdLst/>
            <a:ahLst/>
            <a:rect l="l" t="t" r="r" b="b"/>
            <a:pathLst>
              <a:path w="528" h="144">
                <a:moveTo>
                  <a:pt x="0" y="144"/>
                </a:moveTo>
                <a:lnTo>
                  <a:pt x="336" y="144"/>
                </a:lnTo>
                <a:lnTo>
                  <a:pt x="336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8380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5PWR_EN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7652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6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175248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LP_S5#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205740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LP_S3#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16765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5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213372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96080" y="6094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762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762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91720" y="91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666880"/>
            <a:ext cx="6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WR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762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72400" y="30492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304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382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SMRST Log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066680"/>
            <a:ext cx="6098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21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0666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_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91440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PS5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85800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867280" y="1066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838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3V_S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1447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001000" y="1218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12952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676520"/>
            <a:ext cx="6094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371600"/>
            <a:ext cx="83808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PS5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91720" y="609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5920" y="380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3V_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91440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1523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3V_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001000" y="1904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19051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5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447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080" y="160020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143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1219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_S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05920" y="838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_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9172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2514600"/>
            <a:ext cx="88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2V_S0_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14479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2V__HT0A_S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1600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438280" y="289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886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73392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ORE_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35053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L65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339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RM_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505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819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7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3124080"/>
            <a:ext cx="8384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S48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6576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B_PWR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36576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WR_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2819520"/>
            <a:ext cx="457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9718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B_PWR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29718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B_PWR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905120"/>
            <a:ext cx="95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WRBTN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143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11430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1981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4343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C_CORE_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4956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495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16002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16002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396252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3962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29718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297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4800600"/>
            <a:ext cx="838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B 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8769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DT_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410080"/>
            <a:ext cx="838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5867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59436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STDRV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9436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WR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586728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_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7150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DT_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59436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3244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6477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59436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63244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6324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PC_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5181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CI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51814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CI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647712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680076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238880" y="5105160"/>
            <a:ext cx="0" cy="16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47242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95288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5438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44197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YS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410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PURST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56386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563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60958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6095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510552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105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472428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724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43434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24680" y="4952880"/>
            <a:ext cx="8384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F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55627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586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3886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715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5715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5486400"/>
            <a:ext cx="304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5200" y="5486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1981080"/>
            <a:ext cx="838080" cy="38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SL62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86600" y="762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85800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213372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96080" y="24382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0010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39116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26668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205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2209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1905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8V__S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20574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5V__S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99172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991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2286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5V_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1905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8V_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182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91120" y="1676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1676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32004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UNOWR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124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342900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33526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39625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25V_S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37339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D5V_S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3581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D5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2971800"/>
            <a:ext cx="990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2V_S0_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 REA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24480" y="35053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2920" y="3886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32004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8V_S0_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36576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B_PWRG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6668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2666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1752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38880" y="3962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0000"/>
                </a:solidFill>
                <a:latin typeface="Arial"/>
                <a:ea typeface="新細明體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396252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37 Power ON/RESET Sequence(Adapter 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057400" y="2362320"/>
            <a:ext cx="1314360" cy="14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2743200"/>
            <a:ext cx="6109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743200"/>
            <a:ext cx="133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ISL62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297180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342900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7432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004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T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312408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MAX19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3200400"/>
            <a:ext cx="93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DCBAT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243828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8V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41911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97000" y="1314360"/>
            <a:ext cx="1008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ISL6559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ISL62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6248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32000" y="131436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CBAT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20720" y="89388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ORE_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05000" y="1552680"/>
            <a:ext cx="986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029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3657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25V_S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00480" y="131436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C_CORE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4419720"/>
            <a:ext cx="78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6019920"/>
            <a:ext cx="8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LAN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4267080"/>
            <a:ext cx="12189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371600" y="4419720"/>
            <a:ext cx="75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419112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CBAT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4876920"/>
            <a:ext cx="8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1D2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4480" y="487692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S_STBY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26668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327672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49568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19720" y="35049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251460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266688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2895480"/>
            <a:ext cx="10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419720" y="2742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00600" y="518148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S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3124080"/>
            <a:ext cx="75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2D5V_S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200400"/>
            <a:ext cx="75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D5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3581280"/>
            <a:ext cx="8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2680" y="5181480"/>
            <a:ext cx="6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563868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44197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380988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L53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40384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819520" y="3809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3886200"/>
            <a:ext cx="11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PM_SLP_S5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46360" y="110808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92360" y="1108080"/>
            <a:ext cx="95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64480" y="449568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S_STBY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5257800"/>
            <a:ext cx="64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724280"/>
            <a:ext cx="10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97000" y="1752480"/>
            <a:ext cx="1322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LP2951AC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2520" y="1887480"/>
            <a:ext cx="70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22520" y="1673280"/>
            <a:ext cx="73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_AUX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720" y="4267080"/>
            <a:ext cx="96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 TPS5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64480" y="52578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S_STBY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464832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90720" y="50292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533412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3360" y="4495680"/>
            <a:ext cx="76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5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2280" y="4800600"/>
            <a:ext cx="77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2V_S0_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360" y="5105520"/>
            <a:ext cx="96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5PWR_EN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526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5715000"/>
            <a:ext cx="647640" cy="21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O4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243828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D8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809880" y="19047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182880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新細明體"/>
              </a:rPr>
              <a:t>G913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6728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2880" y="1752480"/>
            <a:ext cx="86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D3V_AUX_S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5268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7339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419720" y="40384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1523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41972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6172200"/>
            <a:ext cx="647640" cy="21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LM11A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57600" y="5486400"/>
            <a:ext cx="10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5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57600" y="5943600"/>
            <a:ext cx="10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419720" y="5943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4197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419720" y="6400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6400800"/>
            <a:ext cx="10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M_SLP_S3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6248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5638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6095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43400" y="6553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3560" y="0"/>
            <a:ext cx="36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37 Power Block Diagra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37 Power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37 Audio Block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63760" y="174456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KR_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01920" y="2852640"/>
            <a:ext cx="2184480" cy="252108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LTEK ALC6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0720" y="1628640"/>
            <a:ext cx="1013040" cy="644760"/>
          </a:xfrm>
          <a:prstGeom prst="rect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CH6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0720" y="582480"/>
            <a:ext cx="1013040" cy="901800"/>
          </a:xfrm>
          <a:prstGeom prst="rect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CI74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rd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3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rd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24360" y="2205000"/>
            <a:ext cx="660240" cy="3808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36840" y="2565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9200" y="4800600"/>
            <a:ext cx="1073160" cy="91440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io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14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45120" y="3068640"/>
            <a:ext cx="990720" cy="50472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762120"/>
            <a:ext cx="11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_OP_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6400800"/>
            <a:ext cx="170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5867280"/>
            <a:ext cx="1028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586400" y="3446640"/>
            <a:ext cx="544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05160" y="4581360"/>
            <a:ext cx="67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D-G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9920" y="502920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47680" y="28526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C_B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317664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_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_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80760" y="51577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36360" y="3111480"/>
            <a:ext cx="10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’97 Link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352680" y="533376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5560" y="98100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CI_SPK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5560" y="5497560"/>
            <a:ext cx="1170000" cy="38088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DC C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0120" y="3276720"/>
            <a:ext cx="395280" cy="16714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3505320"/>
            <a:ext cx="2476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3581280"/>
            <a:ext cx="824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70760" y="4521240"/>
            <a:ext cx="117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.P.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620120" y="4952520"/>
            <a:ext cx="742320" cy="609840"/>
            <a:chOff x="7620120" y="4952520"/>
            <a:chExt cx="742320" cy="609840"/>
          </a:xfrm>
        </p:grpSpPr>
        <p:sp>
          <p:nvSpPr>
            <p:cNvPr id="389" name=""/>
            <p:cNvSpPr/>
            <p:nvPr/>
          </p:nvSpPr>
          <p:spPr>
            <a:xfrm>
              <a:off x="7620120" y="518148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20120" y="533376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20120" y="518148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867440" y="4952520"/>
              <a:ext cx="2473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67440" y="5333760"/>
              <a:ext cx="2473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15120" y="495288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97560" y="525780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8197560" y="5028840"/>
              <a:ext cx="164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97560" y="5410080"/>
              <a:ext cx="1648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620120" y="5562720"/>
            <a:ext cx="742320" cy="609480"/>
            <a:chOff x="7620120" y="5562720"/>
            <a:chExt cx="742320" cy="609480"/>
          </a:xfrm>
        </p:grpSpPr>
        <p:sp>
          <p:nvSpPr>
            <p:cNvPr id="399" name=""/>
            <p:cNvSpPr/>
            <p:nvPr/>
          </p:nvSpPr>
          <p:spPr>
            <a:xfrm>
              <a:off x="7620120" y="579096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20120" y="594360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0120" y="579096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867440" y="5562720"/>
              <a:ext cx="24732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67440" y="5943600"/>
              <a:ext cx="24732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15120" y="55627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97560" y="586728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8197560" y="5638320"/>
              <a:ext cx="164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97560" y="6019560"/>
              <a:ext cx="164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095880" y="5257800"/>
            <a:ext cx="1486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18520" y="53863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18520" y="59961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4724280"/>
            <a:ext cx="930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1893960"/>
            <a:ext cx="1238400" cy="76176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wer 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38680" y="2133720"/>
            <a:ext cx="660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38680" y="1905120"/>
            <a:ext cx="60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_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43800" y="2133720"/>
            <a:ext cx="495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67480" y="1066680"/>
            <a:ext cx="571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33640" y="4633920"/>
            <a:ext cx="858600" cy="471600"/>
          </a:xfrm>
          <a:prstGeom prst="rect">
            <a:avLst/>
          </a:prstGeom>
          <a:noFill/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D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01920" y="335772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2436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01920" y="37162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79680" y="342900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92240" y="4745160"/>
            <a:ext cx="390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121932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1295280"/>
            <a:ext cx="936720" cy="432000"/>
          </a:xfrm>
          <a:prstGeom prst="rect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94160" y="1511280"/>
            <a:ext cx="100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94160" y="1511280"/>
            <a:ext cx="0" cy="69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07200" y="127944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BC_B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31440" y="2638440"/>
            <a:ext cx="93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_SYS_BEE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586400" y="3301920"/>
            <a:ext cx="544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162560" y="365760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7157880" y="3284640"/>
            <a:ext cx="5040" cy="37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144840" y="3284640"/>
            <a:ext cx="101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144840" y="3500280"/>
            <a:ext cx="101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22960" y="3070080"/>
            <a:ext cx="81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_LINR_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22600" y="328608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_LINL_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28800" y="5715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743200" y="5334120"/>
            <a:ext cx="0" cy="43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8040" y="440856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86400" y="426420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_MIC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566960" y="4506840"/>
            <a:ext cx="2606760" cy="1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3581280"/>
            <a:ext cx="0" cy="209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34920" y="22971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19810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35812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96080" y="4038480"/>
            <a:ext cx="2476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4114800"/>
            <a:ext cx="824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51055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010280" y="5029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560" y="426708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57880" y="4292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92240" y="4888080"/>
            <a:ext cx="390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92240" y="5032440"/>
            <a:ext cx="390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96080" y="4572000"/>
            <a:ext cx="2476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772400" y="4648320"/>
            <a:ext cx="8244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16760" y="2179800"/>
            <a:ext cx="12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VA_AUD_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1219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81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5880" y="762120"/>
            <a:ext cx="60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_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72200" y="1066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962760" y="963720"/>
            <a:ext cx="514440" cy="123840"/>
            <a:chOff x="6962760" y="963720"/>
            <a:chExt cx="514440" cy="123840"/>
          </a:xfrm>
        </p:grpSpPr>
        <p:sp>
          <p:nvSpPr>
            <p:cNvPr id="462" name=""/>
            <p:cNvSpPr/>
            <p:nvPr/>
          </p:nvSpPr>
          <p:spPr>
            <a:xfrm flipH="1">
              <a:off x="6981480" y="1059120"/>
              <a:ext cx="954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62760" y="9637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61280" y="1059120"/>
              <a:ext cx="9504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27880" y="9637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77240" y="1030320"/>
              <a:ext cx="28440" cy="28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05680" y="1030320"/>
              <a:ext cx="57240" cy="57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62920" y="1030320"/>
              <a:ext cx="56880" cy="57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19800" y="1030320"/>
              <a:ext cx="55800" cy="57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75600" y="1030320"/>
              <a:ext cx="57240" cy="57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32840" y="1030320"/>
              <a:ext cx="28440" cy="28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3" y="3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595920" y="4767120"/>
            <a:ext cx="209520" cy="3812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6902280" y="4767120"/>
            <a:ext cx="209880" cy="3812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flipV="1">
            <a:off x="6705720" y="47242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010280" y="47242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620120" y="6248520"/>
            <a:ext cx="742320" cy="609480"/>
            <a:chOff x="7620120" y="6248520"/>
            <a:chExt cx="742320" cy="609480"/>
          </a:xfrm>
        </p:grpSpPr>
        <p:sp>
          <p:nvSpPr>
            <p:cNvPr id="479" name=""/>
            <p:cNvSpPr/>
            <p:nvPr/>
          </p:nvSpPr>
          <p:spPr>
            <a:xfrm>
              <a:off x="7620120" y="647676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20120" y="662940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20120" y="6476760"/>
              <a:ext cx="2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867440" y="6248520"/>
              <a:ext cx="24732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7440" y="6629400"/>
              <a:ext cx="24732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115120" y="62485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97560" y="655308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8197560" y="6324120"/>
              <a:ext cx="164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97560" y="6705360"/>
              <a:ext cx="1648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95880" y="5486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5486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6095880"/>
            <a:ext cx="1073160" cy="60984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dio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M4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5880" y="6553080"/>
            <a:ext cx="1524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18520" y="65833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24800" y="51055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o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317000" y="22860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v. SA  12 /04/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37 SMB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31840" y="4192560"/>
            <a:ext cx="990720" cy="18511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7080" y="4649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K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14280" y="51069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KBC39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801720" y="419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01720" y="4421160"/>
            <a:ext cx="33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3962520"/>
            <a:ext cx="94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3D3V_AUX_S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33640" y="43448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50840" y="1393920"/>
            <a:ext cx="101448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SB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38680" y="1447920"/>
            <a:ext cx="124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SMBC_S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54520" y="1712880"/>
            <a:ext cx="124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新細明體"/>
              </a:rPr>
              <a:t>SMBD_S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34280" y="2433600"/>
            <a:ext cx="927000" cy="69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CLK 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DTCV1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D=D2/D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99200" y="1596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057040" y="1676520"/>
            <a:ext cx="487692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057400" y="1981080"/>
            <a:ext cx="510552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6520" y="2433600"/>
            <a:ext cx="879480" cy="620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IMM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D=A2/A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94280" y="2433600"/>
            <a:ext cx="858600" cy="620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IMM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D=A0/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575320" y="1676160"/>
            <a:ext cx="1440" cy="75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811840" y="1980720"/>
            <a:ext cx="0" cy="45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441520" y="1390320"/>
            <a:ext cx="180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606760" y="146664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359080" y="1009440"/>
            <a:ext cx="164520" cy="457200"/>
            <a:chOff x="2359080" y="1009440"/>
            <a:chExt cx="164520" cy="457200"/>
          </a:xfrm>
        </p:grpSpPr>
        <p:sp>
          <p:nvSpPr>
            <p:cNvPr id="517" name=""/>
            <p:cNvSpPr/>
            <p:nvPr/>
          </p:nvSpPr>
          <p:spPr>
            <a:xfrm flipV="1">
              <a:off x="2441520" y="100944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1"/>
            <a:stretch/>
          </p:blipFill>
          <p:spPr>
            <a:xfrm>
              <a:off x="2359080" y="1123920"/>
              <a:ext cx="16452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2523960" y="1009440"/>
            <a:ext cx="164880" cy="457200"/>
            <a:chOff x="2523960" y="1009440"/>
            <a:chExt cx="164880" cy="457200"/>
          </a:xfrm>
        </p:grpSpPr>
        <p:sp>
          <p:nvSpPr>
            <p:cNvPr id="520" name=""/>
            <p:cNvSpPr/>
            <p:nvPr/>
          </p:nvSpPr>
          <p:spPr>
            <a:xfrm flipV="1">
              <a:off x="2606760" y="100944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2523960" y="1123920"/>
              <a:ext cx="16488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"/>
          <p:cNvSpPr/>
          <p:nvPr/>
        </p:nvSpPr>
        <p:spPr>
          <a:xfrm flipV="1">
            <a:off x="4406760" y="1639440"/>
            <a:ext cx="1800" cy="79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641840" y="200016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904080" y="1676520"/>
            <a:ext cx="1440" cy="75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139160" y="200196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00160" y="11365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5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240600" y="207324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3</a:t>
            </a: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D3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69000" y="2289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133720" y="4800600"/>
            <a:ext cx="9144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133720" y="5029200"/>
            <a:ext cx="1295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43400" y="45720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MBC_K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19720" y="4800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MBD_K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417760" y="454932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47440" y="432108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71840" y="4626000"/>
            <a:ext cx="1440" cy="422280"/>
          </a:xfrm>
          <a:custGeom>
            <a:avLst/>
            <a:gdLst/>
            <a:ahLst/>
            <a:rect l="l" t="t" r="r" b="b"/>
            <a:pathLst>
              <a:path w="1" h="266">
                <a:moveTo>
                  <a:pt x="0" y="26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362320" y="4190760"/>
            <a:ext cx="152280" cy="457200"/>
            <a:chOff x="2362320" y="4190760"/>
            <a:chExt cx="152280" cy="457200"/>
          </a:xfrm>
        </p:grpSpPr>
        <p:sp>
          <p:nvSpPr>
            <p:cNvPr id="537" name=""/>
            <p:cNvSpPr/>
            <p:nvPr/>
          </p:nvSpPr>
          <p:spPr>
            <a:xfrm flipV="1">
              <a:off x="2438640" y="419076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2362320" y="4305240"/>
              <a:ext cx="15228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9" name=""/>
          <p:cNvSpPr/>
          <p:nvPr/>
        </p:nvSpPr>
        <p:spPr>
          <a:xfrm>
            <a:off x="2133720" y="5334120"/>
            <a:ext cx="5410080" cy="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5638680"/>
            <a:ext cx="5410080" cy="0"/>
          </a:xfrm>
          <a:prstGeom prst="line">
            <a:avLst/>
          </a:prstGeom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3886200"/>
            <a:ext cx="50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5V_S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43800" y="5257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43800" y="5257800"/>
            <a:ext cx="762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D=16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494080" y="4168440"/>
            <a:ext cx="152280" cy="457200"/>
            <a:chOff x="2494080" y="4168440"/>
            <a:chExt cx="152280" cy="457200"/>
          </a:xfrm>
        </p:grpSpPr>
        <p:sp>
          <p:nvSpPr>
            <p:cNvPr id="545" name=""/>
            <p:cNvSpPr/>
            <p:nvPr/>
          </p:nvSpPr>
          <p:spPr>
            <a:xfrm flipV="1">
              <a:off x="2570400" y="416844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4"/>
            <a:stretch/>
          </p:blipFill>
          <p:spPr>
            <a:xfrm>
              <a:off x="2494080" y="4282920"/>
              <a:ext cx="15228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"/>
          <p:cNvSpPr/>
          <p:nvPr/>
        </p:nvSpPr>
        <p:spPr>
          <a:xfrm>
            <a:off x="5105520" y="4191120"/>
            <a:ext cx="7617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05520" y="4267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81480" y="4495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7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181480" y="48006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D=7A/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6248520" y="4038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67280" y="4267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011360" y="472428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705720" y="50288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858000" y="50288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629400" y="4571640"/>
            <a:ext cx="304920" cy="457200"/>
            <a:chOff x="6629400" y="4571640"/>
            <a:chExt cx="304920" cy="457200"/>
          </a:xfrm>
        </p:grpSpPr>
        <p:grpSp>
          <p:nvGrpSpPr>
            <p:cNvPr id="557" name=""/>
            <p:cNvGrpSpPr/>
            <p:nvPr/>
          </p:nvGrpSpPr>
          <p:grpSpPr>
            <a:xfrm>
              <a:off x="6629400" y="4571640"/>
              <a:ext cx="152280" cy="457200"/>
              <a:chOff x="6629400" y="4571640"/>
              <a:chExt cx="152280" cy="457200"/>
            </a:xfrm>
          </p:grpSpPr>
          <p:sp>
            <p:nvSpPr>
              <p:cNvPr id="558" name=""/>
              <p:cNvSpPr/>
              <p:nvPr/>
            </p:nvSpPr>
            <p:spPr>
              <a:xfrm flipV="1">
                <a:off x="6705720" y="4571640"/>
                <a:ext cx="1440" cy="114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629400" y="4686120"/>
                <a:ext cx="15228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"/>
            <p:cNvGrpSpPr/>
            <p:nvPr/>
          </p:nvGrpSpPr>
          <p:grpSpPr>
            <a:xfrm>
              <a:off x="6782040" y="4571640"/>
              <a:ext cx="152280" cy="457200"/>
              <a:chOff x="6782040" y="4571640"/>
              <a:chExt cx="152280" cy="457200"/>
            </a:xfrm>
          </p:grpSpPr>
          <p:sp>
            <p:nvSpPr>
              <p:cNvPr id="561" name=""/>
              <p:cNvSpPr/>
              <p:nvPr/>
            </p:nvSpPr>
            <p:spPr>
              <a:xfrm flipV="1">
                <a:off x="6858360" y="4571640"/>
                <a:ext cx="1440" cy="114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782040" y="4686120"/>
                <a:ext cx="152280" cy="342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3" name=""/>
          <p:cNvSpPr/>
          <p:nvPr/>
        </p:nvSpPr>
        <p:spPr>
          <a:xfrm>
            <a:off x="3962520" y="510552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TA_SC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5410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TA_S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3048120" y="4500360"/>
            <a:ext cx="419040" cy="321480"/>
            <a:chOff x="3048120" y="4500360"/>
            <a:chExt cx="419040" cy="321480"/>
          </a:xfrm>
        </p:grpSpPr>
        <p:sp>
          <p:nvSpPr>
            <p:cNvPr id="566" name=""/>
            <p:cNvSpPr/>
            <p:nvPr/>
          </p:nvSpPr>
          <p:spPr>
            <a:xfrm flipV="1">
              <a:off x="3257640" y="4524480"/>
              <a:ext cx="1440" cy="9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6200000">
              <a:off x="3187800" y="44715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51240" y="4809960"/>
              <a:ext cx="9540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17840" y="471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067200" y="4809960"/>
              <a:ext cx="9504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48120" y="4714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62240" y="4705200"/>
              <a:ext cx="18900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62240" y="4809960"/>
              <a:ext cx="190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81320" y="4714920"/>
              <a:ext cx="1440" cy="950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7640" y="4772160"/>
              <a:ext cx="1440" cy="3780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57640" y="4809960"/>
              <a:ext cx="9360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32160" y="4714920"/>
              <a:ext cx="1440" cy="8568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62240" y="4809960"/>
              <a:ext cx="190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81320" y="4705200"/>
              <a:ext cx="1440" cy="1047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162240" y="4705200"/>
              <a:ext cx="18900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32160" y="4705200"/>
              <a:ext cx="1440" cy="1047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09760" y="4705200"/>
              <a:ext cx="47880" cy="47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209760" y="4753080"/>
              <a:ext cx="9396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57640" y="4705200"/>
              <a:ext cx="46080" cy="47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57640" y="4753080"/>
              <a:ext cx="1440" cy="5688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57640" y="4809960"/>
              <a:ext cx="9360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62240" y="4667400"/>
              <a:ext cx="18900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257640" y="4619520"/>
              <a:ext cx="1440" cy="478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3317040" y="452628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Courier New"/>
                  <a:ea typeface="新細明體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 rot="16200000">
            <a:off x="3384000" y="48978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Courier New"/>
                <a:ea typeface="新細明體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16200000">
            <a:off x="3099600" y="489780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Courier New"/>
                <a:ea typeface="新細明體"/>
              </a:rPr>
              <a:t>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4572000"/>
            <a:ext cx="34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80"/>
                </a:solidFill>
                <a:latin typeface="Arial"/>
                <a:ea typeface="新細明體"/>
              </a:rPr>
              <a:t>2</a:t>
            </a:r>
            <a:r>
              <a:rPr b="0" lang="en-US" sz="700" spc="-1" strike="noStrike">
                <a:solidFill>
                  <a:srgbClr val="000080"/>
                </a:solidFill>
                <a:latin typeface="Arial"/>
                <a:ea typeface="新細明體"/>
              </a:rPr>
              <a:t>N700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429000" y="4728960"/>
            <a:ext cx="419040" cy="478080"/>
            <a:chOff x="3429000" y="4728960"/>
            <a:chExt cx="419040" cy="478080"/>
          </a:xfrm>
        </p:grpSpPr>
        <p:sp>
          <p:nvSpPr>
            <p:cNvPr id="594" name=""/>
            <p:cNvSpPr/>
            <p:nvPr/>
          </p:nvSpPr>
          <p:spPr>
            <a:xfrm flipV="1">
              <a:off x="3638520" y="4753080"/>
              <a:ext cx="1440" cy="9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6200000">
              <a:off x="3569040" y="4700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32120" y="5038560"/>
              <a:ext cx="9540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98720" y="4943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447720" y="5038560"/>
              <a:ext cx="9540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4943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43480" y="4933800"/>
              <a:ext cx="18864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43480" y="5038560"/>
              <a:ext cx="187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62200" y="4943520"/>
              <a:ext cx="1800" cy="950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38520" y="5000760"/>
              <a:ext cx="1440" cy="3780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38520" y="5038560"/>
              <a:ext cx="9360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13040" y="4943520"/>
              <a:ext cx="1800" cy="8568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43480" y="5038560"/>
              <a:ext cx="187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62200" y="4933800"/>
              <a:ext cx="1800" cy="1047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43480" y="4933800"/>
              <a:ext cx="18864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13040" y="4933800"/>
              <a:ext cx="1800" cy="1047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91000" y="4933800"/>
              <a:ext cx="47520" cy="47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91000" y="4981680"/>
              <a:ext cx="9360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38520" y="4933800"/>
              <a:ext cx="46080" cy="47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38520" y="4981680"/>
              <a:ext cx="1440" cy="5688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38520" y="5038560"/>
              <a:ext cx="9360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43480" y="4896000"/>
              <a:ext cx="18864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38520" y="4848120"/>
              <a:ext cx="1440" cy="478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3698280" y="475488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Courier New"/>
                  <a:ea typeface="新細明體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3764880" y="5126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Courier New"/>
                  <a:ea typeface="新細明體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3480840" y="5126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Courier New"/>
                  <a:ea typeface="新細明體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809880" y="5029200"/>
            <a:ext cx="1295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09880" y="4876920"/>
            <a:ext cx="341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80"/>
                </a:solidFill>
                <a:latin typeface="Arial"/>
                <a:ea typeface="新細明體"/>
              </a:rPr>
              <a:t>2</a:t>
            </a:r>
            <a:r>
              <a:rPr b="0" lang="en-US" sz="700" spc="-1" strike="noStrike">
                <a:solidFill>
                  <a:srgbClr val="000080"/>
                </a:solidFill>
                <a:latin typeface="Arial"/>
                <a:ea typeface="新細明體"/>
              </a:rPr>
              <a:t>N700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4114800" y="457164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4267080" y="45720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4191120" y="4190760"/>
            <a:ext cx="152280" cy="457200"/>
            <a:chOff x="4191120" y="4190760"/>
            <a:chExt cx="152280" cy="457200"/>
          </a:xfrm>
        </p:grpSpPr>
        <p:sp>
          <p:nvSpPr>
            <p:cNvPr id="626" name=""/>
            <p:cNvSpPr/>
            <p:nvPr/>
          </p:nvSpPr>
          <p:spPr>
            <a:xfrm flipV="1">
              <a:off x="4267440" y="419076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7"/>
            <a:stretch/>
          </p:blipFill>
          <p:spPr>
            <a:xfrm>
              <a:off x="4191120" y="4305240"/>
              <a:ext cx="15228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"/>
          <p:cNvGrpSpPr/>
          <p:nvPr/>
        </p:nvGrpSpPr>
        <p:grpSpPr>
          <a:xfrm>
            <a:off x="4038480" y="4190760"/>
            <a:ext cx="152280" cy="457200"/>
            <a:chOff x="4038480" y="4190760"/>
            <a:chExt cx="152280" cy="457200"/>
          </a:xfrm>
        </p:grpSpPr>
        <p:sp>
          <p:nvSpPr>
            <p:cNvPr id="629" name=""/>
            <p:cNvSpPr/>
            <p:nvPr/>
          </p:nvSpPr>
          <p:spPr>
            <a:xfrm flipV="1">
              <a:off x="4114800" y="4190760"/>
              <a:ext cx="1440" cy="11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0" name="" descr=""/>
            <p:cNvPicPr/>
            <p:nvPr/>
          </p:nvPicPr>
          <p:blipFill>
            <a:blip r:embed="rId8"/>
            <a:stretch/>
          </p:blipFill>
          <p:spPr>
            <a:xfrm>
              <a:off x="4038480" y="4305240"/>
              <a:ext cx="15228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"/>
          <p:cNvSpPr/>
          <p:nvPr/>
        </p:nvSpPr>
        <p:spPr>
          <a:xfrm>
            <a:off x="2057400" y="3886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3D3V_SUX_S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28760" y="762120"/>
            <a:ext cx="78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3</a:t>
            </a:r>
            <a:r>
              <a:rPr b="0" lang="en-US" sz="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D3V_S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7000" y="22860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v. SA  12 /04/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48520" y="43434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3D3V_SUX_S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19920" y="3809880"/>
            <a:ext cx="50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5V_S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276720" y="4266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657600" y="4267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962520"/>
            <a:ext cx="50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5V_S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0:21:31Z</dcterms:created>
  <dc:creator>Shian Huang</dc:creator>
  <dc:description/>
  <dc:language>en-US</dc:language>
  <cp:lastModifiedBy>k0509256</cp:lastModifiedBy>
  <dcterms:modified xsi:type="dcterms:W3CDTF">2005-11-24T16:51:21Z</dcterms:modified>
  <cp:revision>13</cp:revision>
  <dc:subject/>
  <dc:title>Clock Block Diagram   Rev. SA  12 /04/ 2004</dc:title>
</cp:coreProperties>
</file>